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00C0-C4C7-46A7-A121-B3C61D6A4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F62C-6436-4C02-BE56-EE0CDCF9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E5A6-645D-437F-8C3C-4B71BC35B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57AE-060E-43D6-B701-8AF78B44B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AD39-ED13-40D2-B9C4-BBD5ADF2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F173-2065-4FB2-B941-5A09C0A4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9C05-C79B-40B1-9508-44622E3F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E5CB-68C0-4726-B958-7AD7388A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FA7E-2269-4CB4-AAD1-B7B77128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9F6E-49F4-4D8D-BDE5-3B48A8CC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6F2E-B8D2-41E3-A097-7DC20CCA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96B2-8050-40B7-80FF-23FDAE2A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6C324-6BDB-4E1D-AE29-667412C0DCF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Georgia"/>
              </a:rPr>
              <a:t>БЮДЖЕТ ДЛЯ ГРАЖДАН</a:t>
            </a:r>
            <a:br>
              <a:rPr sz="4400"/>
            </a:br>
            <a:br>
              <a:rPr sz="2900"/>
            </a:br>
            <a:br>
              <a:rPr sz="29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чет об исполнении бюджета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униципального образования «Лачиновский сельсовет» Касторенского района Курской области за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20 год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униципальный бюджет – это форма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образования и расходования денежных средств, предназначенных для финансового обеспечения задач и функций органов местного самоуправления</a:t>
            </a: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 rot="16200000">
            <a:off x="1475640" y="1917000"/>
            <a:ext cx="1727280" cy="3456000"/>
          </a:xfrm>
          <a:prstGeom prst="horizontalScroll">
            <a:avLst>
              <a:gd name="adj" fmla="val 12500"/>
            </a:avLst>
          </a:prstGeom>
          <a:solidFill>
            <a:srgbClr val="efc7e4">
              <a:alpha val="50000"/>
            </a:srgbClr>
          </a:solidFill>
          <a:ln cap="sq"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Доходы бюджета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– поступающ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в бюджет денежн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редства в вид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налоговых , неналоговых 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безвозмездных поступл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 rot="16200000">
            <a:off x="6084000" y="1989720"/>
            <a:ext cx="1800000" cy="3382920"/>
          </a:xfrm>
          <a:prstGeom prst="horizontalScroll">
            <a:avLst>
              <a:gd name="adj" fmla="val 12500"/>
            </a:avLst>
          </a:prstGeom>
          <a:solidFill>
            <a:srgbClr val="abbafb">
              <a:alpha val="50000"/>
            </a:srgbClr>
          </a:solidFill>
          <a:ln cap="sq"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Расходы бюджета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– денеж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редства, направляем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на финансовое обеспеч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задач и функций орган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естного само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468360" y="4653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f8bda6">
              <a:alpha val="50000"/>
            </a:srgbClr>
          </a:solidFill>
          <a:ln cap="sq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Де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ревышение расходов бюджета над его доход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68360" y="5661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b4faa4">
              <a:alpha val="50000"/>
            </a:srgbClr>
          </a:solidFill>
          <a:ln cap="sq"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Про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ревышение доходов бюджета над его расхода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Составление бюджета основывается на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0" y="1844640"/>
            <a:ext cx="4608360" cy="2160720"/>
          </a:xfrm>
          <a:custGeom>
            <a:avLst/>
            <a:gdLst>
              <a:gd name="textAreaLeft" fmla="*/ 576000 w 4608360"/>
              <a:gd name="textAreaRight" fmla="*/ 4032360 w 460836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2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Бюджетном посл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Президен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Российской Фед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4572000" y="184464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3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Основных направлен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бюджетной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налоговой поли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4606920" y="4437000"/>
            <a:ext cx="4537080" cy="2160720"/>
          </a:xfrm>
          <a:custGeom>
            <a:avLst/>
            <a:gdLst>
              <a:gd name="textAreaLeft" fmla="*/ 567000 w 4537080"/>
              <a:gd name="textAreaRight" fmla="*/ 3970080 w 453708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4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Муниципальных программа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Администрации Лачиновского сельсове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0" y="443700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5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Прогноз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социально-экономиче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развития М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«Лачиновский сельсов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ru-RU" sz="2800" spc="-1" strike="noStrike">
                <a:solidFill>
                  <a:srgbClr val="da102d"/>
                </a:solidFill>
                <a:latin typeface="Times New Roman"/>
                <a:ea typeface="Times New Roman"/>
              </a:rPr>
              <a:t>Основные параметры бюджета </a:t>
            </a:r>
            <a:br>
              <a:rPr sz="2800"/>
            </a:br>
            <a:r>
              <a:rPr b="0" lang="ru-RU" sz="2800" spc="-1" strike="noStrike">
                <a:solidFill>
                  <a:srgbClr val="da102d"/>
                </a:solidFill>
                <a:latin typeface="Times New Roman"/>
                <a:ea typeface="Times New Roman"/>
              </a:rPr>
              <a:t>муниципального образования </a:t>
            </a:r>
            <a:br>
              <a:rPr sz="2800"/>
            </a:br>
            <a:r>
              <a:rPr b="0" lang="ru-RU" sz="2800" spc="-1" strike="noStrike">
                <a:solidFill>
                  <a:srgbClr val="da102d"/>
                </a:solidFill>
                <a:latin typeface="Times New Roman"/>
                <a:ea typeface="Times New Roman"/>
              </a:rPr>
              <a:t>«Лачиновский сельсовет» Касторенского района Курской области за 2020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95280" y="2349360"/>
          <a:ext cx="8353440" cy="4561200"/>
        </p:xfrm>
        <a:graphic>
          <a:graphicData uri="http://schemas.openxmlformats.org/drawingml/2006/table">
            <a:tbl>
              <a:tblPr/>
              <a:tblGrid>
                <a:gridCol w="2670120"/>
                <a:gridCol w="1567080"/>
                <a:gridCol w="1560240"/>
                <a:gridCol w="2556000"/>
              </a:tblGrid>
              <a:tr h="100836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начено на 2020 год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о за 2020 год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73332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– 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75,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74,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131112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ственные доходы (тыс.рубле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3,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9,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835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– 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05,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4,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673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фицит местного бюдже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,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da102d"/>
                </a:solidFill>
                <a:latin typeface="Times New Roman"/>
                <a:ea typeface="Times New Roman"/>
              </a:rPr>
              <a:t>Расходы бюджета муниципального образования «Лачиновский сельсовет»Касторенского района Курской области за 2020 год (тыс.руб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24000" y="1052640"/>
          <a:ext cx="8231040" cy="534348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7400"/>
                <a:gridCol w="2057400"/>
              </a:tblGrid>
              <a:tr h="2764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оказатели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Назначено на 2020 го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Исполнено за 2020 го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70,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7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8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Национальная оборона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,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,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4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4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4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8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8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Культур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8,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3,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Социальная поддержка граждан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ВСЕГО РАСХОД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5,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4,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Times New Roman"/>
                <a:ea typeface="Times New Roman"/>
              </a:rPr>
              <a:t>Доходы бюджета муниципального образования «Лачиновского сельсовета» за 2020 г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Group 3"/>
          <p:cNvGrpSpPr/>
          <p:nvPr/>
        </p:nvGrpSpPr>
        <p:grpSpPr>
          <a:xfrm>
            <a:off x="179280" y="1844640"/>
            <a:ext cx="8458200" cy="4458960"/>
            <a:chOff x="179280" y="1844640"/>
            <a:chExt cx="8458200" cy="4458960"/>
          </a:xfrm>
        </p:grpSpPr>
        <p:cxnSp>
          <p:nvCxnSpPr>
            <p:cNvPr id="63" name="AutoShape 4"/>
            <p:cNvCxnSpPr>
              <a:stCxn id="64" idx="0"/>
            </p:cNvCxnSpPr>
            <p:nvPr/>
          </p:nvCxnSpPr>
          <p:spPr>
            <a:xfrm flipV="1" rot="16200000">
              <a:off x="5442120" y="2602800"/>
              <a:ext cx="892800" cy="2964600"/>
            </a:xfrm>
            <a:prstGeom prst="bentConnector3">
              <a:avLst>
                <a:gd name="adj1" fmla="val 4973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65" name="AutoShape 5"/>
            <p:cNvCxnSpPr>
              <a:stCxn id="66" idx="0"/>
            </p:cNvCxnSpPr>
            <p:nvPr/>
          </p:nvCxnSpPr>
          <p:spPr>
            <a:xfrm flipV="1" rot="16200000">
              <a:off x="3962160" y="4084560"/>
              <a:ext cx="892800" cy="1080"/>
            </a:xfrm>
            <a:prstGeom prst="bentConnector2">
              <a:avLst/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67" name="AutoShape 6"/>
            <p:cNvCxnSpPr>
              <a:stCxn id="68" idx="0"/>
            </p:cNvCxnSpPr>
            <p:nvPr/>
          </p:nvCxnSpPr>
          <p:spPr>
            <a:xfrm flipH="1" flipV="1" rot="5400000">
              <a:off x="2480760" y="2605320"/>
              <a:ext cx="892800" cy="2959560"/>
            </a:xfrm>
            <a:prstGeom prst="bentConnector3">
              <a:avLst>
                <a:gd name="adj1" fmla="val 4973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grpSp>
          <p:nvGrpSpPr>
            <p:cNvPr id="69" name="AutoShape 7"/>
            <p:cNvGrpSpPr/>
            <p:nvPr/>
          </p:nvGrpSpPr>
          <p:grpSpPr>
            <a:xfrm>
              <a:off x="3114720" y="1844640"/>
              <a:ext cx="2584440" cy="1819440"/>
              <a:chOff x="3114720" y="1844640"/>
              <a:chExt cx="2584440" cy="1819440"/>
            </a:xfrm>
          </p:grpSpPr>
          <p:pic>
            <p:nvPicPr>
              <p:cNvPr id="70" name="AutoShap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114720" y="1844640"/>
                <a:ext cx="2584440" cy="181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"/>
              <p:cNvSpPr/>
              <p:nvPr/>
            </p:nvSpPr>
            <p:spPr>
              <a:xfrm>
                <a:off x="3226680" y="1953000"/>
                <a:ext cx="2361240" cy="159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Доходы (всего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2974</a:t>
                </a:r>
                <a:r>
                  <a:rPr b="1" lang="en-US" sz="2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ru-RU" sz="2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тыс.руб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" name="AutoShape 8"/>
            <p:cNvSpPr/>
            <p:nvPr/>
          </p:nvSpPr>
          <p:spPr>
            <a:xfrm>
              <a:off x="179280" y="4531320"/>
              <a:ext cx="2535480" cy="177228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Налогов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11</a:t>
              </a:r>
              <a:r>
                <a:rPr b="1" lang="ru-RU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09,9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AutoShape 9"/>
            <p:cNvSpPr/>
            <p:nvPr/>
          </p:nvSpPr>
          <p:spPr>
            <a:xfrm>
              <a:off x="3139920" y="4531320"/>
              <a:ext cx="2535480" cy="177228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Неналогов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0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AutoShape 10"/>
            <p:cNvSpPr/>
            <p:nvPr/>
          </p:nvSpPr>
          <p:spPr>
            <a:xfrm>
              <a:off x="6102360" y="4531320"/>
              <a:ext cx="2535120" cy="1772280"/>
            </a:xfrm>
            <a:prstGeom prst="roundRect">
              <a:avLst>
                <a:gd name="adj" fmla="val 16667"/>
              </a:avLst>
            </a:prstGeom>
            <a:blipFill rotWithShape="0">
              <a:blip r:embed="rId5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Безвозмезд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поступ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1864,1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179280" y="1114560"/>
            <a:ext cx="8713800" cy="7588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1818d2"/>
                </a:solidFill>
                <a:latin typeface="Times New Roman"/>
                <a:ea typeface="Times New Roman"/>
              </a:rPr>
              <a:t>«Программная» структура бюджета муниципального образования «Лачиновский сельсовет»Касторенского района Курской области за 2020 год (тыс.руб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50920" y="1125360"/>
          <a:ext cx="8650080" cy="8221680"/>
        </p:xfrm>
        <a:graphic>
          <a:graphicData uri="http://schemas.openxmlformats.org/drawingml/2006/table">
            <a:tbl>
              <a:tblPr/>
              <a:tblGrid>
                <a:gridCol w="6883920"/>
                <a:gridCol w="775440"/>
                <a:gridCol w="775440"/>
                <a:gridCol w="216000"/>
              </a:tblGrid>
              <a:tr h="53208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начено на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20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го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нено за 2020 го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. Муниципальная программа «Развитие культуры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768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683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2. Муниципальная программа «Социальная поддержка граждан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9973"/>
                          </a:solidFill>
                          <a:latin typeface="Times New Roman"/>
                          <a:ea typeface="Times New Roman"/>
                        </a:rPr>
                        <a:t>33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9973"/>
                          </a:solidFill>
                          <a:latin typeface="Times New Roman"/>
                          <a:ea typeface="Times New Roman"/>
                        </a:rPr>
                        <a:t>33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3. Муниципальная программа «Управление муниципальным имуществом и земельными ресурсам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9973"/>
                          </a:solidFill>
                          <a:latin typeface="Times New Roman"/>
                          <a:ea typeface="Times New Roman"/>
                        </a:rPr>
                        <a:t>4. Муниципальная программа «Охрана окружающей среды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73"/>
                          </a:solidFill>
                          <a:latin typeface="Times New Roman"/>
                          <a:ea typeface="Times New Roman"/>
                        </a:rPr>
                        <a:t>363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363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r>
                        <a:rPr b="1" lang="ru-RU" sz="1200" spc="-1" strike="noStrike">
                          <a:solidFill>
                            <a:srgbClr val="009973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Профилактика правонарушений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6. Муниципальная программа «Обеспечение доступным и комфортным жильем и коммунальными услугами граждан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7. Муниципальная программа   «Развитие муниципальной службы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8. Муниципальная программа «Развитие транспортной системы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27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43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9. Муниципальная программа «Обеспечение правопорядка на территории муниципального образования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. Муниципальная программа «Защита населения и территории от чрезвычайных ситуаций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2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2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95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1. Муниципальная программа «Развитие малого и среднего предпринимательств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1">
            <a:lum bright="-6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da102d"/>
                </a:solidFill>
                <a:latin typeface="Times New Roman"/>
                <a:ea typeface="Times New Roman"/>
              </a:rPr>
              <a:t>Расходы на общегосударственные вопросы </a:t>
            </a:r>
            <a:br>
              <a:rPr sz="2000"/>
            </a:br>
            <a:r>
              <a:rPr b="0" lang="ru-RU" sz="2000" spc="-1" strike="noStrike">
                <a:solidFill>
                  <a:srgbClr val="da102d"/>
                </a:solidFill>
                <a:latin typeface="Times New Roman"/>
                <a:ea typeface="Times New Roman"/>
              </a:rPr>
              <a:t>муниципального образования «Лачиновский сельсовет» Касторенского района</a:t>
            </a:r>
            <a:br>
              <a:rPr sz="2000"/>
            </a:br>
            <a:r>
              <a:rPr b="0" lang="ru-RU" sz="2000" spc="-1" strike="noStrike">
                <a:solidFill>
                  <a:srgbClr val="da102d"/>
                </a:solidFill>
                <a:latin typeface="Times New Roman"/>
                <a:ea typeface="Times New Roman"/>
              </a:rPr>
              <a:t> Курской области (тыс.руб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68360" y="2349360"/>
          <a:ext cx="8231040" cy="3840480"/>
        </p:xfrm>
        <a:graphic>
          <a:graphicData uri="http://schemas.openxmlformats.org/drawingml/2006/table">
            <a:tbl>
              <a:tblPr/>
              <a:tblGrid>
                <a:gridCol w="4979880"/>
                <a:gridCol w="1152720"/>
                <a:gridCol w="1211040"/>
                <a:gridCol w="887400"/>
              </a:tblGrid>
              <a:tr h="74952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Назначено на 2020 год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Исполнено за 2020 год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,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1870,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1777,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Обеспечение функционирования главы муниципального образовани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457,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457,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Обеспечение деятельности администрации муниципального образовани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471,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470,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92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Другие общегосударственные вопрос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941,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849,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9T18:34:03Z</dcterms:created>
  <dc:creator>Admin</dc:creator>
  <dc:description/>
  <dc:language>en-US</dc:language>
  <cp:lastModifiedBy>User</cp:lastModifiedBy>
  <dcterms:modified xsi:type="dcterms:W3CDTF">2022-02-27T12:13:38Z</dcterms:modified>
  <cp:revision>101</cp:revision>
  <dc:subject/>
  <dc:title>БЮДЖЕТ ДЛЯ ГРАЖДАН     муниципального образования «Стакановский сельсовет» Черемисиновского района Курской области на 2015 год  и на плановый период  2016 и 2017 годов</dc:title>
</cp:coreProperties>
</file>